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293-2167-4613-813D-2878F2F3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469-B128-4ED9-8843-633B0AC9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D39-A54B-446F-85DC-FB7B129D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C47-1CF2-4D45-BE95-F0D3A8BE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B85-BA99-48FA-99CF-224917E3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ECF-2437-42E7-B875-8A0B1BEB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70D-979E-4DE5-93C1-99546016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D39-CF2E-401F-91CD-09C04FE1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2EC-7DA6-43AA-950C-C7F3BB79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1EB-889F-4E04-8C56-B11E4890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DC1-FAEE-4634-94C5-FC04EA6B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C42-4A02-424C-9227-6D4FE1DD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0C2A-E189-4D53-81C3-679B37849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0.7 x 7000 =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7240" y="1050840"/>
            <a:ext cx="77724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x  =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9651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luosi digid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6146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ymharu gyda’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westi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20356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0.7 x 7000 =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148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213000"/>
            <a:ext cx="77724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0.13 x 0.2 =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240" y="378792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                        </a:t>
            </a: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x      =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37018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luosi digid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435132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ymharu gyda’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westi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94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0" lang="en-GB" sz="4000" spc="-1" strike="noStrike">
                <a:solidFill>
                  <a:srgbClr val="000000"/>
                </a:solidFill>
                <a:latin typeface="Century Gothic"/>
              </a:rPr>
              <a:t>0.13 x 0.2 =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2100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422100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22100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32000" y="9079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00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8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692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119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1181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907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781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0.52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0.4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256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.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7080" y="30700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3054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443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÷ 0.06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4221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7080" y="47260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4710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4437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1:33:51Z</dcterms:created>
  <dc:creator>Betsan Wyn Thomas</dc:creator>
  <dc:description/>
  <dc:language>en-US</dc:language>
  <cp:lastModifiedBy>Betsan Wyn Thomas</cp:lastModifiedBy>
  <dcterms:modified xsi:type="dcterms:W3CDTF">2007-09-17T21:51:36Z</dcterms:modified>
  <cp:revision>3</cp:revision>
  <dc:subject/>
  <dc:title>0.7 x 7000 = ? </dc:title>
</cp:coreProperties>
</file>